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14C-637B-4D46-BF23-B020DCE8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3FB-2E04-446B-B40E-D00D87FD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78A-3173-4ECD-8054-EA9D3A5B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6F2-3CA3-4231-A741-BF352B4D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1441-428B-4163-8E17-3DCAFA2A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C43F-0586-4D7B-9DE0-FCCB9264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6E6A-80D6-4872-B696-A4F70F52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E6A1-183B-4635-BA7B-4B33DE8A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93D6-8482-400D-A705-48C826A9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C8DE-2F14-492F-B549-EDAFD5F3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E9F3-9BC9-47CF-9036-D2DAAF89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731-CF9F-4075-B963-D1359496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F0B9-F162-4CD4-848C-CAC1764D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8906-A312-498D-9DEE-C9DA4683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2EF5-71ED-405D-8EFD-96C873FB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352C-3EED-4570-817F-9EAAC3DD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5981-A3D8-4D0C-8201-22BE4AC2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F11-C42E-4DE0-8463-0FBD59F0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633-3BA5-4954-A607-EDCC3716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50C-1589-41E5-A41D-AE6F8309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FA2-0A55-4021-8857-B41F0482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7AD-C744-46A0-8B54-D4E4348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9CC-A768-4C27-AEB8-12465ACA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115-079F-4BAD-AED4-43351682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39F1-4E5B-4607-8A74-83F9DD237A9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6735-2410-4AB1-A996-C842AD8DFF6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هو عظيم حب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خالق الأكوا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جابل الإنسا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رّفني درب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خلقتني من العد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لأتني من النع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غفرت ذن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م وكم يا جابلي أشكر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فخت فيّ روح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قشت فيّ رسم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شفت لي عن اسم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خالقي أحبّ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3-01-29T16:46:04Z</dcterms:modified>
  <cp:revision>18</cp:revision>
  <dc:subject/>
  <dc:title>Slide 1</dc:title>
</cp:coreProperties>
</file>